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788DF-EFAE-4103-911B-663B2319A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BD62C-F3CB-4B2D-A620-600302762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F9D05-FE83-439B-B1C0-8221D5331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7546D-7BF1-43EE-A86A-7E3E7A72F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4150F-1C72-4436-BBB7-2E7723D2F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CC0DD-F093-4110-B63D-417E2865D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0656A-DE0B-4F02-A200-2E06AD619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62BC0-6EAC-4538-8A7A-13C178C46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4F5E1-0F90-4CBA-9E9E-3FA595C1A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1778D-220D-4876-9CF6-A79B00DE8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F0CD3-4342-4BC1-8026-2A5D02D15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A8DFE-30D1-4500-A984-54D217CB4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F54D6-C129-402E-946F-A93D14AFB6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670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Arial"/>
              </a:rPr>
              <a:t>The water in the lake looks beautiful.</a:t>
            </a: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670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800" spc="-1" strike="noStrike">
                <a:solidFill>
                  <a:srgbClr val="000000"/>
                </a:solidFill>
                <a:latin typeface="Arial"/>
              </a:rPr>
              <a:t>Animals are living in that tree.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670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0" spc="-1" strike="noStrike">
                <a:solidFill>
                  <a:srgbClr val="000000"/>
                </a:solidFill>
                <a:latin typeface="Arial"/>
              </a:rPr>
              <a:t>We are getting a box that is full of paper.</a:t>
            </a: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670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100" spc="-1" strike="noStrike">
                <a:solidFill>
                  <a:srgbClr val="000000"/>
                </a:solidFill>
                <a:latin typeface="Arial"/>
              </a:rPr>
              <a:t>It was warm when we were walking.</a:t>
            </a: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670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200" spc="-1" strike="noStrike">
                <a:solidFill>
                  <a:srgbClr val="000000"/>
                </a:solidFill>
                <a:latin typeface="Arial"/>
              </a:rPr>
              <a:t>Please water the flowers if they are drooping or dropping.</a:t>
            </a:r>
            <a:endParaRPr b="0" lang="en-US" sz="9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670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Arial"/>
              </a:rPr>
              <a:t>My sister closes her eyes when she sneezes.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670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Arial"/>
              </a:rPr>
              <a:t>Getting to school early leaves us time to play.</a:t>
            </a: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670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300" spc="-1" strike="noStrike">
                <a:solidFill>
                  <a:srgbClr val="000000"/>
                </a:solidFill>
                <a:latin typeface="Arial"/>
              </a:rPr>
              <a:t>Tim loves animals and takes good care of them.</a:t>
            </a:r>
            <a:endParaRPr b="0" lang="en-US" sz="10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670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The teacher stopped and jumped on the bus that was full of kids</a:t>
            </a: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670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200" spc="-1" strike="noStrike">
                <a:solidFill>
                  <a:srgbClr val="000000"/>
                </a:solidFill>
                <a:latin typeface="Arial"/>
              </a:rPr>
              <a:t>A warm day makes people everywhere think of going outside and taking it easy.</a:t>
            </a:r>
            <a:endParaRPr b="0" lang="en-US" sz="8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670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100" spc="-1" strike="noStrike">
                <a:solidFill>
                  <a:srgbClr val="000000"/>
                </a:solidFill>
                <a:latin typeface="Arial"/>
              </a:rPr>
              <a:t>I shaded my eyes from the sun.</a:t>
            </a: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670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400" spc="-1" strike="noStrike">
                <a:solidFill>
                  <a:srgbClr val="000000"/>
                </a:solidFill>
                <a:latin typeface="Arial"/>
              </a:rPr>
              <a:t>My dad and I will go visiting early.</a:t>
            </a:r>
            <a:endParaRPr b="0" lang="en-US" sz="1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670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600" spc="-1" strike="noStrike">
                <a:solidFill>
                  <a:srgbClr val="000000"/>
                </a:solidFill>
                <a:latin typeface="Arial"/>
              </a:rPr>
              <a:t>We petted some animals at the farm.</a:t>
            </a:r>
            <a:endParaRPr b="0" lang="en-US" sz="1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670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0" spc="-1" strike="noStrike">
                <a:solidFill>
                  <a:srgbClr val="000000"/>
                </a:solidFill>
                <a:latin typeface="Arial"/>
              </a:rPr>
              <a:t>We showed Mom the pail that is full of nuts.</a:t>
            </a: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670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600" spc="-1" strike="noStrike">
                <a:solidFill>
                  <a:srgbClr val="000000"/>
                </a:solidFill>
                <a:latin typeface="Arial"/>
              </a:rPr>
              <a:t>I wanted a warm coat.</a:t>
            </a:r>
            <a:endParaRPr b="0" lang="en-US" sz="14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670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600" spc="-1" strike="noStrike">
                <a:solidFill>
                  <a:srgbClr val="000000"/>
                </a:solidFill>
                <a:latin typeface="Arial"/>
              </a:rPr>
              <a:t>Are you getting a glass of water?</a:t>
            </a:r>
            <a:endParaRPr b="0" lang="en-US" sz="1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670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800" spc="-1" strike="noStrike">
                <a:solidFill>
                  <a:srgbClr val="000000"/>
                </a:solidFill>
                <a:latin typeface="Arial"/>
              </a:rPr>
              <a:t>He was rubbing his eyes.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670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600" spc="-1" strike="noStrike">
                <a:solidFill>
                  <a:srgbClr val="000000"/>
                </a:solidFill>
                <a:latin typeface="Arial"/>
              </a:rPr>
              <a:t>He likes to get up early.</a:t>
            </a:r>
            <a:endParaRPr b="0" lang="en-US" sz="14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5T13:15:55Z</dcterms:created>
  <dc:creator> </dc:creator>
  <dc:description/>
  <dc:language>en-US</dc:language>
  <cp:lastModifiedBy>Laura McDow</cp:lastModifiedBy>
  <dcterms:modified xsi:type="dcterms:W3CDTF">2010-09-02T15:15:42Z</dcterms:modified>
  <cp:revision>24</cp:revision>
  <dc:subject/>
  <dc:title>He is always happy.</dc:title>
</cp:coreProperties>
</file>